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862D-D68B-4F63-B6F9-41BF70F1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BCEA-CD8B-424C-872B-ACF0F8D4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611-D455-4C43-B5E2-676D6443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880F-A134-4965-9BFA-E954A064D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873E-C8BE-48AE-BFEF-8DA1C400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1F39-4140-44C3-957C-64E66AB9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75EF-6098-4960-AA13-16AAC637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1C95-AD43-48C9-824B-AAE758A6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37C6-4C19-49E9-85BD-2B4B1D9A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1634-262E-4D5A-B14C-7C9D785E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D5FE-D465-4CF9-9560-4F040596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C26-6335-43C3-A90E-881E7426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16A2-BCA9-4113-827D-B8C21F43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0E94-FEC2-4465-87CC-327FD077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E57A-7461-410F-8168-79BA53BC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E955-EA3A-47F0-9F99-AE32F2A5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4F49-676E-4408-A183-571486EA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A6D2-A252-4C45-81B3-A3EAC0E8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7A3-A3A8-4443-A064-A1EE2008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63D-88DD-490A-96BE-3104D3B0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C22E-3166-4CD1-93B9-FCDEC3FA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47AA-9133-44D2-8CB6-5A42F5E2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E553-7BDE-403B-A93A-780714A4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AE69-7D3B-4DAB-80A6-495AD54E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1448-D6EB-44E5-AF48-AA30A461873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3CE2-D3A6-4FFA-8445-7EE48461B2D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5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appy Tuesday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286000" y="3200400"/>
            <a:ext cx="640080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d your new sea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ke out your Letter To The Editor packet (DO NOT TURN IN YE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genda for Toda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tional revisions due Thursday for Letter to the Editor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- possibly watching video today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art with 5 minute group check-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ock Market Graphs &amp; Q’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YOU ARE WORKING WELL for 45 minutes– we will finish class with a movie about the suffrage mov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HOMEWORK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ue Thurs:  31.3 Fascism notes (in packet), revised Letter to the Edi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IF ABSENT THURS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nish pack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genda for Toda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5 minutes end of film –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ron-Jawed Ange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OPTION FOR LETTER TO 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THE EDITOR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vise and turn in THURSDA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you will have some notes du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urs. also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n include notes from vide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ke a closer look at your packet with the timeline and reading… think: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“Why were women fighting so hard for this right to vote?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184800" y="343080"/>
            <a:ext cx="28828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ue Thurs: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1.3 Fascism notes (in packe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vised Letter to the Editor (optiona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ock Market graphs &amp; Q’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IF ABSENT THURS: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ish packet and Stock Market graphs &amp; Q’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3:58:43Z</dcterms:created>
  <dc:creator>MCPASD</dc:creator>
  <dc:description/>
  <dc:language>en-US</dc:language>
  <cp:lastModifiedBy>MCPASD</cp:lastModifiedBy>
  <dcterms:modified xsi:type="dcterms:W3CDTF">2012-03-13T18:24:17Z</dcterms:modified>
  <cp:revision>3</cp:revision>
  <dc:subject/>
  <dc:title>Happy Tuesday!</dc:title>
</cp:coreProperties>
</file>